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5D1-DA31-45C6-8423-5C3FC02D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883-B406-493C-9101-879A1CEB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F03-E9D8-4FEF-AD35-A914ADC2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406-ED36-4BDF-A749-058285EA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594-01CD-440B-B7EA-841B51CD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F842-16E2-4D38-AE93-399F2FD1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1E2-CA5A-4E2B-A53C-F6126118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139-BB58-424F-92D6-427BCBD8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191-79C0-4C7C-B529-74172C86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19B-16DD-4F44-B8D8-04C15E84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B2B-E86C-48C1-8569-29BDCE14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7142-5500-4136-BD81-8F3C9086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984E-594F-434B-A700-13DFEF24F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fifitystates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http://www.enchantedlearning.com/usa/states/indiana/" TargetMode="External"/><Relationship Id="rId4" Type="http://schemas.openxmlformats.org/officeDocument/2006/relationships/hyperlink" Target="http://www.enchantedlearning.com/usa/states/indiana/" TargetMode="External"/><Relationship Id="rId5" Type="http://schemas.openxmlformats.org/officeDocument/2006/relationships/hyperlink" Target="http://www.enchantedlearning.com/usa/statesbw/indiana.shtml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nchantedlearning.com/usa/statesbw/indiana.shtml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postcardsfrom.com/t1/991101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6680" y="609480"/>
            <a:ext cx="70866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dian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7543800" y="4568760"/>
            <a:ext cx="1600200" cy="2288520"/>
          </a:xfrm>
          <a:prstGeom prst="rect">
            <a:avLst/>
          </a:prstGeom>
          <a:solidFill>
            <a:srgbClr val="9f6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ara Wi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66880" y="6324480"/>
            <a:ext cx="381240" cy="533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5910120"/>
            <a:ext cx="4267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diana Song: Fifty States,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 Indiana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0/25/11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ifitystate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82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ital: Indianapol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: 6,483,8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ed the Union: December 11,1816  19th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to: The cross roads of Ame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kname: Hoosier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wer: Peo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d: Car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g: On the banks of the Waba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behind name: Latinized name in honor of Indian tri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24480" y="1676520"/>
            <a:ext cx="2362320" cy="1981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24480" y="3657600"/>
            <a:ext cx="2362320" cy="16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ony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wer,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diana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tober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, 2011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indiana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362320"/>
            <a:ext cx="5029200" cy="2655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24480" y="1143000"/>
            <a:ext cx="2362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picture of the states flower the peo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029200"/>
            <a:ext cx="5029200" cy="106740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this picture there is the state Indiana highlighted in yellow on the map, and on the right is the capitol of Indiana on the yellow state, Indiana October 18,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70000" y="990720"/>
            <a:ext cx="3097080" cy="4724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43000" y="0"/>
            <a:ext cx="3124080" cy="1067400"/>
          </a:xfrm>
          <a:prstGeom prst="rect">
            <a:avLst/>
          </a:prstGeom>
          <a:solidFill>
            <a:srgbClr val="dcd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the state of Indiana it is sho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the capitols and river all over the am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019920" y="2057400"/>
            <a:ext cx="2895480" cy="2362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19920" y="1523880"/>
            <a:ext cx="2895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Indiana's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rd the card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4419720"/>
            <a:ext cx="29304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bird the cardinal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diana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ctober 25 2011, http://www.enchantedlearning.com/usa/states/indiana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5880" y="5715000"/>
            <a:ext cx="5045400" cy="580680"/>
          </a:xfrm>
          <a:prstGeom prst="rect">
            <a:avLst/>
          </a:prstGeom>
          <a:solidFill>
            <a:srgbClr val="dcd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diana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ctober 25 201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nchantedlearning.com/usa/states/indi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All images Copyright © 1997 - 2000 WriteLine. All Rights Reserved. Indianapolis IN Capitol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876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05120" y="152280"/>
            <a:ext cx="41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Indiana's state Capitol, Indianapol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89280" y="57754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1400" y="5562720"/>
            <a:ext cx="644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the capitol of Indiana on a post car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diana, October 25 201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91101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7Z</dcterms:created>
  <dc:creator>install</dc:creator>
  <dc:description/>
  <dc:language>en-US</dc:language>
  <cp:lastModifiedBy>install</cp:lastModifiedBy>
  <dcterms:modified xsi:type="dcterms:W3CDTF">2011-10-26T13:55:58Z</dcterms:modified>
  <cp:revision>9</cp:revision>
  <dc:subject/>
  <dc:title>Slide 1</dc:title>
</cp:coreProperties>
</file>